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5400" y="95400"/>
            <a:ext cx="6667200" cy="895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44600" y="520560"/>
            <a:ext cx="60451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urse Management Pla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98440" y="6921360"/>
            <a:ext cx="6337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VY CONSTRUCTION EQUIPMENT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 21E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597200" cy="459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1T11:07:58Z</dcterms:created>
  <dc:creator>USAEC AND FLW</dc:creator>
  <dc:description/>
  <cp:keywords/>
  <dc:language>en-US</dc:language>
  <cp:lastModifiedBy>timothy.blake1</cp:lastModifiedBy>
  <cp:lastPrinted>1998-09-25T20:18:44Z</cp:lastPrinted>
  <dcterms:modified xsi:type="dcterms:W3CDTF">2006-04-10T17:30:36Z</dcterms:modified>
  <cp:revision>2</cp:revision>
  <dc:subject/>
  <dc:title>No Slide Title</dc:title>
</cp:coreProperties>
</file>